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3.gif" ContentType="image/gi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6824-D991-4510-9157-27EFFE98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0DA-39D6-482B-8DE4-3948226D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F314-2616-478B-901D-3206CA74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B03F-FE6C-4779-8F55-3D7F6753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AAD9-67A2-485C-91E4-E7D7F624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708F-1F65-45C0-AD01-1A41A9C2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6164-5A33-4038-AAF6-09874D97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6B4C-A3AC-41B9-91C9-A15B0F41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D1AD-5F16-4BFE-90B4-F18B21C3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CD0E-E487-40A3-B7D2-9B224F57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E6F3-8216-42BD-B55A-F19E4BF2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1CDA-5B15-415C-A541-3FA8C680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2DC8-E7C8-4D72-BD2B-FFAB93EF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CD7C-A97D-49C5-BA79-BC41DF05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3F88-F72B-4830-81E5-7FF1FE37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E6C7-4148-4B14-BFA7-AB0376A9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B496-1785-414B-9EB7-00D70F03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0212-1A32-491E-B037-06D6B30A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1596-834E-40C1-BBB5-AC564953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1AE3-0E36-405E-B14F-47AD4B8E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0C2-137E-4011-A836-B4CD35AA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F3F6-3E00-4F94-9F19-57207673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AE8B-6943-4771-8B16-191FDB24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DC2-C4BF-4EF4-864D-3570CC21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C8A7-49B4-42C2-A987-8A256BC4C5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4494-353C-493F-9057-9C9E76C483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560" y="3573000"/>
            <a:ext cx="784404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Тема: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ccecff"/>
                </a:solidFill>
                <a:latin typeface="Arial"/>
              </a:rPr>
              <a:t>Компьютерные игры, как средство развития математических представлений у детей дошкольного возраста.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156360" y="55440"/>
            <a:ext cx="2592360" cy="1717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2160720" cy="15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сновной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989000"/>
            <a:ext cx="2448000" cy="396108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участник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Анализ проблем, формулировка зада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Выбор критериев оценивания результа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Систематизировать план конкретных дейст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4720" y="1989000"/>
            <a:ext cx="2448000" cy="388800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педагог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Помогает в анализе, наблюдает, контролиру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Формирует необходимые умения и нав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32000" y="1989000"/>
            <a:ext cx="2880000" cy="39610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Планирование действий по разрешение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агматический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1844640"/>
            <a:ext cx="2232000" cy="417672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участник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Выполняют исследование.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940360" y="1989000"/>
            <a:ext cx="2448000" cy="403236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педагог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Наблюдает, консультирует, контролиру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16360" y="1700280"/>
            <a:ext cx="3024000" cy="43210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Поиск информации, которая обрабатывается, осмысливается и представля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ключительный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1844640"/>
            <a:ext cx="144720" cy="71640"/>
          </a:xfrm>
          <a:custGeom>
            <a:avLst/>
            <a:gdLst>
              <a:gd name="textAreaLeft" fmla="*/ 4320 w 144720"/>
              <a:gd name="textAreaRight" fmla="*/ 140400 w 14472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43524" h="21600">
                <a:moveTo>
                  <a:pt x="0" y="0"/>
                </a:moveTo>
                <a:lnTo>
                  <a:pt x="43524" y="0"/>
                </a:lnTo>
                <a:lnTo>
                  <a:pt x="43524" y="21600"/>
                </a:lnTo>
                <a:lnTo>
                  <a:pt x="0" y="21600"/>
                </a:lnTo>
                <a:close/>
              </a:path>
              <a:path fill="lightenLess" w="43524" h="21600">
                <a:moveTo>
                  <a:pt x="0" y="0"/>
                </a:moveTo>
                <a:lnTo>
                  <a:pt x="43524" y="0"/>
                </a:lnTo>
                <a:lnTo>
                  <a:pt x="42124" y="1400"/>
                </a:lnTo>
                <a:lnTo>
                  <a:pt x="1400" y="1400"/>
                </a:lnTo>
                <a:close/>
              </a:path>
              <a:path fill="darken" w="43524" h="21600">
                <a:moveTo>
                  <a:pt x="43524" y="0"/>
                </a:moveTo>
                <a:lnTo>
                  <a:pt x="43524" y="21600"/>
                </a:lnTo>
                <a:lnTo>
                  <a:pt x="42124" y="20200"/>
                </a:lnTo>
                <a:lnTo>
                  <a:pt x="42124" y="1400"/>
                </a:lnTo>
                <a:close/>
              </a:path>
              <a:path fill="darkenLess" w="43524" h="21600">
                <a:moveTo>
                  <a:pt x="43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124" y="20200"/>
                </a:lnTo>
                <a:close/>
              </a:path>
              <a:path fill="lighten" w="43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1989000"/>
            <a:ext cx="2376360" cy="396108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участник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Оформляют проект, изготавливают проду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Анализируют выполненный прое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Выясняют причины успехов, неуда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56360" y="2060640"/>
            <a:ext cx="2232000" cy="396072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педагог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Наблюдает, совету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Помогает в обеспечении прое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59280" y="1916280"/>
            <a:ext cx="3025440" cy="41050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Анализ хода и результатов 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тоговый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1989000"/>
            <a:ext cx="2592360" cy="396108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участник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Защищают прое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40360" y="2133720"/>
            <a:ext cx="2592360" cy="381636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педагог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Участвует в коллективном анализе и оценке результа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48000" y="1916280"/>
            <a:ext cx="2519280" cy="38178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Представление готового продук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опросы проек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акое значение играют компьютерные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акие компьютерные  игры необходимо использовать в ДО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акие математические представления необходимо развивать у детей дошкольного возра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ак необходимо организовывать деятельность детей для развития математических представлений посредством компьютерных игр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акие компьютерные игры способствуют развитию математических представлений детей дошкольного возраста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13683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частники проек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дагоги и студенты педагогических учебных завед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268360" y="3141720"/>
            <a:ext cx="424980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Цель проекта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ть знания педагогам и студентам о компьютерных играх как средстве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азвития математических представлений у детей дошкольного возраста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516720" y="260280"/>
            <a:ext cx="2376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чи проек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Сформировать представления педагогов и студентов  о компьютерных играх, как средстве развития математических представлений у детей дошкольного возра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аучить использовать средств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азвития математических представлений у детей дошкольного возра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казать практическое значение использования компьютерных игр, как средства развития математических представлений у детей дошкольного возраста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22320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одержание проек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 данном проекте рассматриваются проблемы использования компьютерных игр для развития математических представлений. Значение использования компьютерных игр, развитие математических представлений детей дошкольного возраста, также применение компьютерных игр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лан проведения рабо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ать знания педагогам и студентам  о компьютерных играх, как средстве развития математических представлений у детей дошкольного возра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651640" y="400536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Этапы работы над проектом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ициирующ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ополагающ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гмат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ключите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тогов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нициирующий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2421000"/>
            <a:ext cx="3672000" cy="3168720"/>
          </a:xfrm>
          <a:prstGeom prst="leftRightArrow">
            <a:avLst>
              <a:gd name="adj1" fmla="val 50000"/>
              <a:gd name="adj2" fmla="val 23069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Определение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Формулирование вопро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1280" y="2708280"/>
            <a:ext cx="2089080" cy="324180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участник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Определение темы, уточнение ц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Выбор рабочей груп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16720" y="2708280"/>
            <a:ext cx="1942920" cy="324180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Деятельность педагог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Мотивирует учащихся, объясняет цели, наблюд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Ставит цели и задачи обучения, развития, вос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09:33:28Z</dcterms:created>
  <dc:creator>Студент</dc:creator>
  <dc:description/>
  <dc:language>en-US</dc:language>
  <cp:lastModifiedBy>Наташа</cp:lastModifiedBy>
  <dcterms:modified xsi:type="dcterms:W3CDTF">2009-05-22T15:00:18Z</dcterms:modified>
  <cp:revision>9</cp:revision>
  <dc:subject/>
  <dc:title>Тема: Компьютерные игры, как средство развития математических представлений у детей дошкольного возраста. </dc:title>
</cp:coreProperties>
</file>